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ECF-EA0E-4934-B024-78489139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09D-15E0-42CD-95FE-0102CB2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FE1-11B0-412C-AF50-6D24A549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96A-EDD7-40F9-8B72-B7BD29E0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60D-9405-4B93-A5C0-60463C7B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017-4B58-4251-905F-A038E923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15A-F76C-4D86-9BFF-8D1EB3B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B3F-D178-40ED-9247-230AFB3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85C-CD4D-48D0-B05A-C64C257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3AF-1082-4EC0-AB87-E9203B7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7EC-23C6-42D0-AB4F-92E4BB9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2F3-F21B-4438-87D1-3F28CB0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6E7-C4F8-4427-AF24-DF4B4708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5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ко израчунати ННТ за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во дефинисати колико пута је наш пацијент мање или више склон исходу који се помиње у студ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ш пацијент поред дијабетеса узима и изониазид па је око два пута више склон да развије неуропат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Сада ННТ треба поделити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: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у нашем примеру то 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4.7/2 = 7.3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0400" y="2491920"/>
            <a:ext cx="80964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ДОКАЗИ О ТРЕТМА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И ПРИМЕНЉИВ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клин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пацијенти по принципу случајног избора сврстани у експерименталну и контролну груп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и пацијенти који су ушли у студију узети у обзир приликом извођења закључ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 да ли су анализирани у групама у којима су били на почет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губитак највише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студија била двоструко сле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третиране на исти начин изузев третмана који се испит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сличне на почетку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релатив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апсолут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ој болесника који треба да примају нови лек да би се код једног од њих спречио негативан исход  - 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Number Needed to Tre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ННТ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84280"/>
          <a:ext cx="8785440" cy="532116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1584360"/>
                <a:gridCol w="1371600"/>
                <a:gridCol w="1371600"/>
                <a:gridCol w="1649520"/>
              </a:tblGrid>
              <a:tr h="1289160">
                <a:tc row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неуропа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релатив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псолут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болесника које треба лечити да би се спречио 1 негативан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ч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у контрол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зив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. груп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/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T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A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тудиј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.6%-2.8%)/9.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-2.8% = 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.8% = 1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%-28%)/9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-28% = 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8% = 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0096%-0.00028%)/0.00096% = 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-0.00028% = 0.000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.00068% = 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741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ољ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рвен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ход који се спреч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ајање пра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бетес инсулин-завис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нзиван инсулински 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уропат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кутни инфаркт миокар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ептокиназа и аспи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удница са еклампсиј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.в.МгСО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новне конвул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ритисак 90-109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 &gt; 115 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израчунати 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 (confidence limits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израчунава тако што се узима реципрочна вреднос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-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R = 6.8%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NNT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100/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/10.2%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29.4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0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 израчун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 у студији дају као резултат сам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s ratio (OR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следеће форм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=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-[C x (1-OR)]}/[(1-C) x C x (1-OR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честалост појаве која се л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Да ли је наш пацијент исувише различит од оних у студиј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Колика ће бити корист од терапије за нашег пацијент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нови третман и његове последице задовољити вредности и жеље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5:10Z</dcterms:modified>
  <cp:revision>59</cp:revision>
  <dc:subject/>
  <dc:title>Slide 1</dc:title>
</cp:coreProperties>
</file>